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419-A5D1-4A6C-B483-53B6337A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36A-93D2-481C-AA7F-0B85FD93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39B-2E22-480C-B0D4-65AB9C7E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247-6045-4972-87C2-20556BB2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F8F-CB2E-4648-B649-FB45135C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34D7-4560-4EB4-9213-7FF7BF54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C7BC-58F1-4C51-8E16-20179E8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AFF2-BC13-454B-B21D-97C44273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B8DE-83FE-4CF0-BC63-92332C44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F7F9-FB4A-4E54-9F86-97BCFC70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DC5F-9115-44FC-AE07-435F0EB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6EA-1236-4866-8719-153DC7B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FBB5-B4E5-470A-80B7-9D14D62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2E75-31E4-4B8C-8485-8C5C723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BEA0-DC9A-4DD8-89B8-C8E888BC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3003-208E-4495-9F7F-43DA0042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5950-F402-48B9-B290-5856D88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DDD-1BB6-442F-BA0C-E4D2169C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575-45C0-44AF-887B-02A18F5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9B2-B1D3-4A88-9C86-CB840EF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47E-40C9-4A34-ADDE-738E85D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82A-D33A-4D60-B3CB-48E2142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E24-C504-49DC-A1D1-A43882A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D77-3740-47A0-8E6F-271BAAC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EC9-6764-4BB7-A420-AC8E2D79E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B4F1-694F-4519-A277-EC6B36453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USH – UNIT 2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PTERS 6-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el for North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 for American Indepen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a New 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eace at Pari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17-223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094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mate for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nch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y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g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rticles of Confederati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17-223 Part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88800"/>
            <a:ext cx="769608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s of Con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omis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Ordinance of 17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west Ordinance of 17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d of the Article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238-245 Part 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for the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ate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bocracy – Shay’s Rebe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titutional Convention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238-245 Part 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igo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s and more plans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, NJ, Great Compromise, &amp; 3/5 Comprom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gu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ederalists vs. Antifederalist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38-245 Part I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shington’s Regim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45-25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 of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ase the Antifedera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 of a Cabi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, what, why, h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cal Policy and Assum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of a National Ba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itutional interpre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irth of Political Partie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50-259 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of the Two-Part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Policy Challe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’s Trea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ckney’s Trea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ewell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ew Regim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50-259 Part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Adams –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mes a char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F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life for the First Amend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 of null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nch and Indian War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164-17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ndivid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act on the Colo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s and more Acts….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173-18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gar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ce and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ing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mp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s, actions, and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nshend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ton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al Response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181-18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lerable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ce and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s of correspo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comes and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ntinental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xington and Con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arly Stage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186-194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64920"/>
            <a:ext cx="769608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Continental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s (including Olive Bran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nker H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claration of Independenc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186-194 Part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3812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f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’s dilem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of the sign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2166840"/>
          <a:ext cx="8229240" cy="3243240"/>
        </p:xfrm>
        <a:graphic>
          <a:graphicData uri="http://schemas.openxmlformats.org/drawingml/2006/table">
            <a:tbl>
              <a:tblPr/>
              <a:tblGrid>
                <a:gridCol w="2939760"/>
                <a:gridCol w="2546280"/>
                <a:gridCol w="274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rit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6"/>
                          </a:solidFill>
                          <a:latin typeface="Arial"/>
                        </a:rPr>
                        <a:t>Americ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676520" y="304920"/>
            <a:ext cx="7238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aring the Combatant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01-207 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triots and Loyalist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201-207 Part 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y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?  Why?  Whe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s on the Patri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rench Aid /Turning Point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07-21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ce / Alli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ing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contrib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1:52:33Z</dcterms:created>
  <dc:creator>School District U46</dc:creator>
  <dc:description/>
  <dc:language>en-US</dc:language>
  <cp:lastModifiedBy>School District U46</cp:lastModifiedBy>
  <dcterms:modified xsi:type="dcterms:W3CDTF">2009-09-17T12:01:39Z</dcterms:modified>
  <cp:revision>1</cp:revision>
  <dc:subject/>
  <dc:title>APUSH – UNIT 2 CHAPTERS 6-8</dc:title>
</cp:coreProperties>
</file>